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BA1-2281-4AC1-BB1C-B1AD8C7A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4BA-2C21-4D53-87E0-FBF2C6A9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6B3-7183-445C-A0A8-B902CF10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AD4-394B-49E5-84AA-6D025974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25E-11C1-4CEB-A9CB-633F008F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2D8-64EF-47CE-90AE-1C20EA56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8F4-9097-45E4-BDD3-2EDA20C1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44A-6FD4-45EE-9CB9-EDA6216C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70D-F7EB-4655-9147-66315885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B47-98CA-421D-98EE-3861C9B9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C5A-122B-47D6-A634-2F6911A8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6E7-DB5F-43A2-956A-DB6EF421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9DAB-33D8-432E-9E9F-73E03C1D6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8 Pán Ježiš je môj živ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je môj živo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i mrieť chcem len s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neho svet je prázd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slávne zvíťaz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ach smrti nedesí u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 hrobu neľak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ňa Pán mrel na kríž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láska odvek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koro pominú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ľ, úzkosť, súž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zkriesením mi d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slávy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hoc sa sila strá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ych už krátky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ducha svojho je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navždy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rdca tlkot stích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hasne svetla lúč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spánku zobudí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Božej lásky kľúč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ôle svojho P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v hrobe spočinú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a sľub jeho chcem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teraz spoľah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dnes tvoj čakám prícho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viera výhľad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plníš moju nád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Láska víťazn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3:41:31Z</dcterms:modified>
  <cp:revision>21</cp:revision>
  <dc:subject/>
  <dc:title>Je veľký náš Pán, on slávy je Kráľ Nech do všetkých strán  spev vrúcnych znie chvál.</dc:title>
</cp:coreProperties>
</file>